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67688775321"/>
          <c:y val="0.02019192323070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7780246639"/>
          <c:y val="0.156537385045982"/>
          <c:w val="0.959893345183869"/>
          <c:h val="0.8232706917233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3</c:v>
                </c:pt>
                <c:pt idx="2">
                  <c:v>19</c:v>
                </c:pt>
                <c:pt idx="3">
                  <c:v>5</c:v>
                </c:pt>
                <c:pt idx="4">
                  <c:v>6</c:v>
                </c:pt>
                <c:pt idx="5">
                  <c:v>1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8.14402173913044</c:v>
                </c:pt>
                <c:pt idx="1">
                  <c:v>6.60326086956522</c:v>
                </c:pt>
                <c:pt idx="2">
                  <c:v>18.0489130434783</c:v>
                </c:pt>
                <c:pt idx="3">
                  <c:v>16.2880434782609</c:v>
                </c:pt>
                <c:pt idx="4">
                  <c:v>8.36413043478261</c:v>
                </c:pt>
                <c:pt idx="5">
                  <c:v>8.36413043478261</c:v>
                </c:pt>
                <c:pt idx="6">
                  <c:v>3.52173913043478</c:v>
                </c:pt>
                <c:pt idx="7">
                  <c:v>8.3641304347826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76086956521739</c:v>
                </c:pt>
                <c:pt idx="15">
                  <c:v>1.54076086956522</c:v>
                </c:pt>
              </c:numCache>
            </c:numRef>
          </c:val>
        </c:ser>
        <c:gapWidth val="100"/>
        <c:overlap val="0"/>
        <c:axId val="12456308"/>
        <c:axId val="86484186"/>
      </c:barChart>
      <c:catAx>
        <c:axId val="124563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84186"/>
        <c:crossesAt val="0"/>
        <c:auto val="1"/>
        <c:lblAlgn val="ctr"/>
        <c:lblOffset val="100"/>
        <c:noMultiLvlLbl val="0"/>
      </c:catAx>
      <c:valAx>
        <c:axId val="86484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630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59957335229545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</c:v>
                </c:pt>
                <c:pt idx="3">
                  <c:v>0</c:v>
                </c:pt>
                <c:pt idx="4">
                  <c:v>7</c:v>
                </c:pt>
                <c:pt idx="5">
                  <c:v>3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4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13333333333333</c:v>
                </c:pt>
                <c:pt idx="1">
                  <c:v>4.13333333333333</c:v>
                </c:pt>
                <c:pt idx="2">
                  <c:v>11.0222222222222</c:v>
                </c:pt>
                <c:pt idx="3">
                  <c:v>9.64444444444445</c:v>
                </c:pt>
                <c:pt idx="4">
                  <c:v>5.51111111111111</c:v>
                </c:pt>
                <c:pt idx="5">
                  <c:v>6.88888888888889</c:v>
                </c:pt>
                <c:pt idx="6">
                  <c:v>4.13333333333333</c:v>
                </c:pt>
                <c:pt idx="7">
                  <c:v>4.13333333333333</c:v>
                </c:pt>
                <c:pt idx="8">
                  <c:v>2.75555555555556</c:v>
                </c:pt>
                <c:pt idx="9">
                  <c:v>2.75555555555556</c:v>
                </c:pt>
                <c:pt idx="10">
                  <c:v>2.75555555555556</c:v>
                </c:pt>
                <c:pt idx="11">
                  <c:v>0</c:v>
                </c:pt>
                <c:pt idx="12">
                  <c:v>1.37777777777778</c:v>
                </c:pt>
                <c:pt idx="13">
                  <c:v>1.37777777777778</c:v>
                </c:pt>
                <c:pt idx="14">
                  <c:v>1.3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1760818"/>
        <c:axId val="63759359"/>
      </c:barChart>
      <c:catAx>
        <c:axId val="117608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9359"/>
        <c:crossesAt val="0"/>
        <c:auto val="1"/>
        <c:lblAlgn val="ctr"/>
        <c:lblOffset val="100"/>
        <c:noMultiLvlLbl val="0"/>
      </c:catAx>
      <c:valAx>
        <c:axId val="63759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08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60001777698769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6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</c:v>
                </c:pt>
                <c:pt idx="1">
                  <c:v>4.8</c:v>
                </c:pt>
                <c:pt idx="2">
                  <c:v>12.8</c:v>
                </c:pt>
                <c:pt idx="3">
                  <c:v>11.2</c:v>
                </c:pt>
                <c:pt idx="4">
                  <c:v>6.4</c:v>
                </c:pt>
                <c:pt idx="5">
                  <c:v>8</c:v>
                </c:pt>
                <c:pt idx="6">
                  <c:v>4.8</c:v>
                </c:pt>
                <c:pt idx="7">
                  <c:v>4.8</c:v>
                </c:pt>
                <c:pt idx="8">
                  <c:v>3.2</c:v>
                </c:pt>
                <c:pt idx="9">
                  <c:v>3.2</c:v>
                </c:pt>
                <c:pt idx="10">
                  <c:v>3.2</c:v>
                </c:pt>
                <c:pt idx="11">
                  <c:v>0</c:v>
                </c:pt>
                <c:pt idx="12">
                  <c:v>1.6</c:v>
                </c:pt>
                <c:pt idx="13">
                  <c:v>1.6</c:v>
                </c:pt>
                <c:pt idx="14">
                  <c:v>1.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6031119"/>
        <c:axId val="88070972"/>
      </c:barChart>
      <c:catAx>
        <c:axId val="960311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70972"/>
        <c:crossesAt val="0"/>
        <c:auto val="1"/>
        <c:lblAlgn val="ctr"/>
        <c:lblOffset val="100"/>
        <c:noMultiLvlLbl val="0"/>
      </c:catAx>
      <c:valAx>
        <c:axId val="88070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111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333333333333</c:v>
                </c:pt>
                <c:pt idx="1">
                  <c:v>3.53333333333333</c:v>
                </c:pt>
                <c:pt idx="2">
                  <c:v>9.42222222222222</c:v>
                </c:pt>
                <c:pt idx="3">
                  <c:v>8.24444444444444</c:v>
                </c:pt>
                <c:pt idx="4">
                  <c:v>4.71111111111111</c:v>
                </c:pt>
                <c:pt idx="5">
                  <c:v>5.88888888888889</c:v>
                </c:pt>
                <c:pt idx="6">
                  <c:v>3.53333333333333</c:v>
                </c:pt>
                <c:pt idx="7">
                  <c:v>3.53333333333333</c:v>
                </c:pt>
                <c:pt idx="8">
                  <c:v>2.35555555555556</c:v>
                </c:pt>
                <c:pt idx="9">
                  <c:v>2.35555555555556</c:v>
                </c:pt>
                <c:pt idx="10">
                  <c:v>2.35555555555556</c:v>
                </c:pt>
                <c:pt idx="11">
                  <c:v>0</c:v>
                </c:pt>
                <c:pt idx="12">
                  <c:v>1.17777777777778</c:v>
                </c:pt>
                <c:pt idx="13">
                  <c:v>1.17777777777778</c:v>
                </c:pt>
                <c:pt idx="14">
                  <c:v>1.1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9236489"/>
        <c:axId val="86782258"/>
      </c:barChart>
      <c:catAx>
        <c:axId val="392364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2258"/>
        <c:crossesAt val="0"/>
        <c:auto val="1"/>
        <c:lblAlgn val="ctr"/>
        <c:lblOffset val="100"/>
        <c:noMultiLvlLbl val="0"/>
      </c:catAx>
      <c:valAx>
        <c:axId val="86782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3648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8741364661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116353458617"/>
          <c:w val="0.95999113376925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7</c:v>
                </c:pt>
                <c:pt idx="2">
                  <c:v>3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3478260869565</c:v>
                </c:pt>
                <c:pt idx="1">
                  <c:v>5.21739130434783</c:v>
                </c:pt>
                <c:pt idx="2">
                  <c:v>14.2608695652174</c:v>
                </c:pt>
                <c:pt idx="3">
                  <c:v>12.8695652173913</c:v>
                </c:pt>
                <c:pt idx="4">
                  <c:v>6.60869565217391</c:v>
                </c:pt>
                <c:pt idx="5">
                  <c:v>6.60869565217391</c:v>
                </c:pt>
                <c:pt idx="6">
                  <c:v>2.78260869565217</c:v>
                </c:pt>
                <c:pt idx="7">
                  <c:v>6.6086956521739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130434782609</c:v>
                </c:pt>
                <c:pt idx="15">
                  <c:v>1.21739130434783</c:v>
                </c:pt>
              </c:numCache>
            </c:numRef>
          </c:val>
        </c:ser>
        <c:gapWidth val="100"/>
        <c:overlap val="0"/>
        <c:axId val="63023287"/>
        <c:axId val="28947104"/>
      </c:barChart>
      <c:catAx>
        <c:axId val="6302328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7104"/>
        <c:crossesAt val="0"/>
        <c:auto val="1"/>
        <c:lblAlgn val="ctr"/>
        <c:lblOffset val="100"/>
        <c:noMultiLvlLbl val="0"/>
      </c:catAx>
      <c:valAx>
        <c:axId val="2894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2328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04377352919"/>
          <c:y val="0.020583533173461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75204842401"/>
          <c:y val="0.209232613908873"/>
          <c:w val="0.959954233409611"/>
          <c:h val="0.770183852917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4</c:v>
                </c:pt>
                <c:pt idx="3">
                  <c:v>4</c:v>
                </c:pt>
                <c:pt idx="4">
                  <c:v>3</c:v>
                </c:pt>
                <c:pt idx="5">
                  <c:v>8</c:v>
                </c:pt>
                <c:pt idx="6">
                  <c:v>3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3315217391304</c:v>
                </c:pt>
                <c:pt idx="1">
                  <c:v>4.97282608695652</c:v>
                </c:pt>
                <c:pt idx="2">
                  <c:v>13.5923913043478</c:v>
                </c:pt>
                <c:pt idx="3">
                  <c:v>12.2663043478261</c:v>
                </c:pt>
                <c:pt idx="4">
                  <c:v>6.29891304347826</c:v>
                </c:pt>
                <c:pt idx="5">
                  <c:v>6.29891304347826</c:v>
                </c:pt>
                <c:pt idx="6">
                  <c:v>2.65217391304348</c:v>
                </c:pt>
                <c:pt idx="7">
                  <c:v>6.298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608695652174</c:v>
                </c:pt>
                <c:pt idx="15">
                  <c:v>1.16032608695652</c:v>
                </c:pt>
              </c:numCache>
            </c:numRef>
          </c:val>
        </c:ser>
        <c:gapWidth val="100"/>
        <c:overlap val="0"/>
        <c:axId val="86042859"/>
        <c:axId val="77471557"/>
      </c:barChart>
      <c:catAx>
        <c:axId val="860428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71557"/>
        <c:crossesAt val="0"/>
        <c:auto val="1"/>
        <c:lblAlgn val="ctr"/>
        <c:lblOffset val="100"/>
        <c:noMultiLvlLbl val="0"/>
      </c:catAx>
      <c:valAx>
        <c:axId val="77471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4285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27213695396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0484061393"/>
          <c:y val="0.209116353458617"/>
          <c:w val="0.959969008264463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7</c:v>
                </c:pt>
                <c:pt idx="2">
                  <c:v>9</c:v>
                </c:pt>
                <c:pt idx="3">
                  <c:v>3</c:v>
                </c:pt>
                <c:pt idx="4">
                  <c:v>5</c:v>
                </c:pt>
                <c:pt idx="5">
                  <c:v>23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3423913043478</c:v>
                </c:pt>
                <c:pt idx="1">
                  <c:v>5.13586956521739</c:v>
                </c:pt>
                <c:pt idx="2">
                  <c:v>14.0380434782609</c:v>
                </c:pt>
                <c:pt idx="3">
                  <c:v>12.6684782608696</c:v>
                </c:pt>
                <c:pt idx="4">
                  <c:v>6.5054347826087</c:v>
                </c:pt>
                <c:pt idx="5">
                  <c:v>6.5054347826087</c:v>
                </c:pt>
                <c:pt idx="6">
                  <c:v>2.73913043478261</c:v>
                </c:pt>
                <c:pt idx="7">
                  <c:v>6.50543478260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95652173913</c:v>
                </c:pt>
                <c:pt idx="15">
                  <c:v>1.19836956521739</c:v>
                </c:pt>
              </c:numCache>
            </c:numRef>
          </c:val>
        </c:ser>
        <c:gapWidth val="100"/>
        <c:overlap val="0"/>
        <c:axId val="47353606"/>
        <c:axId val="93937097"/>
      </c:barChart>
      <c:catAx>
        <c:axId val="473536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37097"/>
        <c:crossesAt val="0"/>
        <c:auto val="1"/>
        <c:lblAlgn val="ctr"/>
        <c:lblOffset val="100"/>
        <c:noMultiLvlLbl val="0"/>
      </c:catAx>
      <c:valAx>
        <c:axId val="93937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5360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53084499740798"/>
          <c:y val="0.02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14989261646"/>
          <c:y val="0.1564"/>
          <c:w val="0.95989780048878"/>
          <c:h val="0.82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1</c:v>
                </c:pt>
                <c:pt idx="2">
                  <c:v>13</c:v>
                </c:pt>
                <c:pt idx="3">
                  <c:v>6</c:v>
                </c:pt>
                <c:pt idx="4">
                  <c:v>1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</c:v>
                </c:pt>
                <c:pt idx="1">
                  <c:v>3.82962962962963</c:v>
                </c:pt>
                <c:pt idx="2">
                  <c:v>10.4444444444444</c:v>
                </c:pt>
                <c:pt idx="3">
                  <c:v>9.4</c:v>
                </c:pt>
                <c:pt idx="4">
                  <c:v>4.87407407407407</c:v>
                </c:pt>
                <c:pt idx="5">
                  <c:v>4.87407407407407</c:v>
                </c:pt>
                <c:pt idx="6">
                  <c:v>2.08888888888889</c:v>
                </c:pt>
                <c:pt idx="7">
                  <c:v>4.8740740740740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4444444444444</c:v>
                </c:pt>
                <c:pt idx="15">
                  <c:v>0.87037037037037</c:v>
                </c:pt>
              </c:numCache>
            </c:numRef>
          </c:val>
        </c:ser>
        <c:gapWidth val="100"/>
        <c:overlap val="0"/>
        <c:axId val="93919194"/>
        <c:axId val="27722091"/>
      </c:barChart>
      <c:catAx>
        <c:axId val="939191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22091"/>
        <c:crossesAt val="0"/>
        <c:auto val="1"/>
        <c:lblAlgn val="ctr"/>
        <c:lblOffset val="100"/>
        <c:noMultiLvlLbl val="0"/>
      </c:catAx>
      <c:valAx>
        <c:axId val="27722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919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28748753186"/>
          <c:y val="0.0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6"/>
          <c:w val="0.959991133769256"/>
          <c:h val="0.7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2</c:v>
                </c:pt>
                <c:pt idx="5">
                  <c:v>18</c:v>
                </c:pt>
                <c:pt idx="6">
                  <c:v>6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</c:v>
                </c:pt>
                <c:pt idx="1">
                  <c:v>4.64444444444444</c:v>
                </c:pt>
                <c:pt idx="2">
                  <c:v>12.6666666666667</c:v>
                </c:pt>
                <c:pt idx="3">
                  <c:v>11.4</c:v>
                </c:pt>
                <c:pt idx="4">
                  <c:v>5.91111111111111</c:v>
                </c:pt>
                <c:pt idx="5">
                  <c:v>5.91111111111111</c:v>
                </c:pt>
                <c:pt idx="6">
                  <c:v>2.53333333333333</c:v>
                </c:pt>
                <c:pt idx="7">
                  <c:v>5.911111111111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6666666666667</c:v>
                </c:pt>
                <c:pt idx="15">
                  <c:v>1.05555555555556</c:v>
                </c:pt>
              </c:numCache>
            </c:numRef>
          </c:val>
        </c:ser>
        <c:gapWidth val="100"/>
        <c:overlap val="0"/>
        <c:axId val="30841574"/>
        <c:axId val="32713923"/>
      </c:barChart>
      <c:catAx>
        <c:axId val="308415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13923"/>
        <c:crossesAt val="0"/>
        <c:auto val="1"/>
        <c:lblAlgn val="ctr"/>
        <c:lblOffset val="100"/>
        <c:noMultiLvlLbl val="0"/>
      </c:catAx>
      <c:valAx>
        <c:axId val="32713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415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09959026983"/>
          <c:y val="0.02038776733959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59063895759"/>
          <c:y val="0.20907455526684"/>
          <c:w val="0.960023624081798"/>
          <c:h val="0.7699380371776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5</c:v>
                </c:pt>
                <c:pt idx="3">
                  <c:v>1</c:v>
                </c:pt>
                <c:pt idx="4">
                  <c:v>3</c:v>
                </c:pt>
                <c:pt idx="5">
                  <c:v>9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</c:v>
                </c:pt>
                <c:pt idx="1">
                  <c:v>3.42222222222222</c:v>
                </c:pt>
                <c:pt idx="2">
                  <c:v>9.33333333333333</c:v>
                </c:pt>
                <c:pt idx="3">
                  <c:v>8.4</c:v>
                </c:pt>
                <c:pt idx="4">
                  <c:v>4.35555555555556</c:v>
                </c:pt>
                <c:pt idx="5">
                  <c:v>4.35555555555556</c:v>
                </c:pt>
                <c:pt idx="6">
                  <c:v>1.86666666666667</c:v>
                </c:pt>
                <c:pt idx="7">
                  <c:v>4.355555555555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33333333333333</c:v>
                </c:pt>
                <c:pt idx="15">
                  <c:v>0.777777777777778</c:v>
                </c:pt>
              </c:numCache>
            </c:numRef>
          </c:val>
        </c:ser>
        <c:gapWidth val="100"/>
        <c:overlap val="0"/>
        <c:axId val="72927101"/>
        <c:axId val="29961891"/>
      </c:barChart>
      <c:catAx>
        <c:axId val="729271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1891"/>
        <c:crossesAt val="0"/>
        <c:auto val="1"/>
        <c:lblAlgn val="ctr"/>
        <c:lblOffset val="100"/>
        <c:noMultiLvlLbl val="0"/>
      </c:catAx>
      <c:valAx>
        <c:axId val="29961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71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79" spc="-1" strike="noStrike">
                <a:solidFill>
                  <a:srgbClr val="000000"/>
                </a:solidFill>
                <a:latin typeface="Arial"/>
              </a:defRPr>
            </a:pPr>
            <a:r>
              <a:rPr b="1" sz="1479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181328545781"/>
          <c:y val="0.020137856467090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30700179533"/>
          <c:y val="0.209487768617381"/>
          <c:w val="0.959964093357271"/>
          <c:h val="0.7702392215164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2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</c:v>
                </c:pt>
                <c:pt idx="1">
                  <c:v>3.74814814814815</c:v>
                </c:pt>
                <c:pt idx="2">
                  <c:v>10.2222222222222</c:v>
                </c:pt>
                <c:pt idx="3">
                  <c:v>9.2</c:v>
                </c:pt>
                <c:pt idx="4">
                  <c:v>4.77037037037037</c:v>
                </c:pt>
                <c:pt idx="5">
                  <c:v>4.77037037037037</c:v>
                </c:pt>
                <c:pt idx="6">
                  <c:v>2.04444444444444</c:v>
                </c:pt>
                <c:pt idx="7">
                  <c:v>4.7703703703703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222222222222</c:v>
                </c:pt>
                <c:pt idx="15">
                  <c:v>0.851851851851852</c:v>
                </c:pt>
              </c:numCache>
            </c:numRef>
          </c:val>
        </c:ser>
        <c:gapWidth val="100"/>
        <c:overlap val="0"/>
        <c:axId val="71973333"/>
        <c:axId val="61072073"/>
      </c:barChart>
      <c:catAx>
        <c:axId val="719733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2073"/>
        <c:crossesAt val="0"/>
        <c:auto val="1"/>
        <c:lblAlgn val="ctr"/>
        <c:lblOffset val="100"/>
        <c:noMultiLvlLbl val="0"/>
      </c:catAx>
      <c:valAx>
        <c:axId val="61072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333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230471191101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333333333333</c:v>
                </c:pt>
                <c:pt idx="1">
                  <c:v>3.33333333333333</c:v>
                </c:pt>
                <c:pt idx="2">
                  <c:v>8.88888888888889</c:v>
                </c:pt>
                <c:pt idx="3">
                  <c:v>7.77777777777778</c:v>
                </c:pt>
                <c:pt idx="4">
                  <c:v>5.55555555555556</c:v>
                </c:pt>
                <c:pt idx="5">
                  <c:v>5.55555555555556</c:v>
                </c:pt>
                <c:pt idx="6">
                  <c:v>4.44444444444444</c:v>
                </c:pt>
                <c:pt idx="7">
                  <c:v>3.33333333333333</c:v>
                </c:pt>
                <c:pt idx="8">
                  <c:v>2.22222222222222</c:v>
                </c:pt>
                <c:pt idx="9">
                  <c:v>2.22222222222222</c:v>
                </c:pt>
                <c:pt idx="10">
                  <c:v>2.2222222222222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1111111111111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4367870"/>
        <c:axId val="16075015"/>
      </c:barChart>
      <c:catAx>
        <c:axId val="443678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5015"/>
        <c:crossesAt val="0"/>
        <c:auto val="1"/>
        <c:lblAlgn val="ctr"/>
        <c:lblOffset val="100"/>
        <c:noMultiLvlLbl val="0"/>
      </c:catAx>
      <c:valAx>
        <c:axId val="16075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787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950-291D-46E3-B77B-198C6DD8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42E-599F-4059-B282-8F7A4817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AE3-6C9D-4120-B603-BE75F96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041-DAEF-418D-95F4-633FB76F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B94-3FF8-4385-B0EA-7AE9184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810-B808-46B7-8382-2C5BB70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5CA-F9AE-4E23-B623-4742337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ACB-D82F-4A10-B7A3-E1CDFE3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29D-D831-417F-B9BE-252EE297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4ED-C3C2-4719-90EC-B6D5CE8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317-CA23-4051-B53A-66BCD45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4E1-82A3-42A2-B2F0-DAC09A1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3F51-02F8-4EFF-9912-6F96E6D95B1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5FC-C4F8-4A49-AA55-6257C05D38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cronograma 2&#186; semeste\Cronograma - PSTE.doc" TargetMode="External"/><Relationship Id="rId3" Type="http://schemas.openxmlformats.org/officeDocument/2006/relationships/hyperlink" Target="..\cronograma 2&#186; semeste\Cronograma - completo.doc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\cronograma de a&#231;&#227;o das escolas\Cronograman - EEBS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BRAZ SINIGÁGLI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BATAYPORÃ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42920" y="2286000"/>
          <a:ext cx="6715080" cy="2000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" name="CaixaDeTexto 5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642960" y="4643280"/>
          <a:ext cx="4286160" cy="130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4643280"/>
                    <a:ext cx="428616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ANDRE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42920" y="2214720"/>
          <a:ext cx="878688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8" name="CaixaDeTexto 4"/>
          <p:cNvSpPr/>
          <p:nvPr/>
        </p:nvSpPr>
        <p:spPr>
          <a:xfrm>
            <a:off x="2214720" y="535788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64304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428760" y="2214720"/>
          <a:ext cx="809928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5" name="CaixaDeTexto 6"/>
          <p:cNvSpPr/>
          <p:nvPr/>
        </p:nvSpPr>
        <p:spPr>
          <a:xfrm>
            <a:off x="2571840" y="4143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7"/>
          <p:cNvSpPr/>
          <p:nvPr/>
        </p:nvSpPr>
        <p:spPr>
          <a:xfrm>
            <a:off x="2000160" y="514368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357280" y="48578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48578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428760" y="2214720"/>
          <a:ext cx="8099280" cy="257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1857240" y="5214960"/>
            <a:ext cx="2714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857240" y="48578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48578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428760" y="2286000"/>
          <a:ext cx="8020080" cy="235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0" name="CaixaDeTexto 5"/>
          <p:cNvSpPr/>
          <p:nvPr/>
        </p:nvSpPr>
        <p:spPr>
          <a:xfrm>
            <a:off x="192888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285920" y="47149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47149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PAULO SÉ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357120" y="2143080"/>
          <a:ext cx="809964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1714680" y="5143680"/>
            <a:ext cx="29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00016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428760" y="2214720"/>
          <a:ext cx="8099280" cy="235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1714680" y="4643280"/>
          <a:ext cx="3811320" cy="144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4643280"/>
                    <a:ext cx="381132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428760" y="2286000"/>
          <a:ext cx="8099280" cy="242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3" name="CaixaDeTexto 5"/>
          <p:cNvSpPr/>
          <p:nvPr/>
        </p:nvSpPr>
        <p:spPr>
          <a:xfrm>
            <a:off x="1857240" y="5072040"/>
            <a:ext cx="18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150012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285840" y="2214720"/>
          <a:ext cx="81010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9" name="CaixaDeTexto 5"/>
          <p:cNvSpPr/>
          <p:nvPr/>
        </p:nvSpPr>
        <p:spPr>
          <a:xfrm>
            <a:off x="157176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071720" y="49291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49291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Religiosa /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Ed. Física / Artes/ Port/ Mat/ Hist/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7,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2,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Ed. Religio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/ Mat 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2,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7,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Ed. Fís/ Mat/ Inglês/ Fís/ Fil/ Soc/ Ed. Religio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His 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3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No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MARIA DE LOU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214200" y="2214720"/>
          <a:ext cx="6858000" cy="2643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1571760" y="4929120"/>
          <a:ext cx="381132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4929120"/>
                    <a:ext cx="38113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Espaço Reservado para Rodapé 6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7143840" y="342900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214200" y="2286000"/>
          <a:ext cx="6786720" cy="242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4" name="CaixaDeTexto 5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1214280" y="5000760"/>
          <a:ext cx="381168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5000760"/>
                    <a:ext cx="38116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14200" y="2214720"/>
          <a:ext cx="7286760" cy="242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1" name="CaixaDeTexto 5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571760" y="4929120"/>
          <a:ext cx="378612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4929120"/>
                    <a:ext cx="37861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7286760" y="33577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19:56:26Z</dcterms:modified>
  <cp:revision>20</cp:revision>
  <dc:subject/>
  <dc:title>EE BRAZ SINIGÁGLIA BATAYPORÃ - MS</dc:title>
</cp:coreProperties>
</file>